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9F6-EB53-41D8-8C8E-2F22490F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0FA-7C65-4984-9D40-4A8B2787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82D-6F3C-4AB0-8D46-CCB06BA1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F09-EA11-4608-ABCD-420DE488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4F4-FC83-4300-8B00-3BD6CD1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3CE-5182-4BA7-A745-C92917E2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DA8-D238-4EF1-AD40-1CC6329D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456-94B7-406D-9498-840B186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9CB-2F63-4D10-880B-68A257D1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945-E746-4643-ADE1-02EFBE6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DEF-4782-4459-8F46-52E079D0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6F2-5316-4619-8EDD-6A14FFB5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90D1-E4AE-4C88-A65B-1BD53EDAD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teachermatters.com/classroom-discipline/models-of-discipline/the-kounin-model.html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resentationhelper.co.uk/powerpoint-templates/00010/468slide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85320" y="1295280"/>
            <a:ext cx="334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The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JACOB KOUN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2212920" y="255600"/>
            <a:ext cx="4437000" cy="115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3124080" y="1600200"/>
            <a:ext cx="5334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bility to attend to multiple situations/students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eacher has the ability to multi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: The teacher is able to speak to the class about a topic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walk around the classroom to monitor thei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0.gstatic.com/images?q=tbn:ANd9GcR-TyVlMQMEA8Q5djXgss3HAHsBIRtp_mjznTRzxJNETXGWmM6c"/>
          <p:cNvPicPr/>
          <p:nvPr/>
        </p:nvPicPr>
        <p:blipFill>
          <a:blip r:embed="rId3"/>
          <a:stretch/>
        </p:blipFill>
        <p:spPr>
          <a:xfrm>
            <a:off x="609480" y="2971800"/>
            <a:ext cx="2057400" cy="345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" descr=""/>
          <p:cNvPicPr/>
          <p:nvPr/>
        </p:nvPicPr>
        <p:blipFill>
          <a:blip r:embed="rId2"/>
          <a:stretch/>
        </p:blipFill>
        <p:spPr>
          <a:xfrm>
            <a:off x="523800" y="347760"/>
            <a:ext cx="7974000" cy="11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982600" y="2057400"/>
            <a:ext cx="523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ran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2"/>
          <a:stretch/>
        </p:blipFill>
        <p:spPr>
          <a:xfrm>
            <a:off x="3790800" y="208080"/>
            <a:ext cx="4341960" cy="1103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3200400" y="20149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sets a direction and does not lose focus on their lesson. The teacher avoids going off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is able to transition the students from one activity to another without having too many disru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http://t3.gstatic.com/images?q=tbn:ANd9GcTrrS5CjFLmW8MixQS3PXrJXQbMfM6EuVURHxK7UDE-8fKjW0mu"/>
          <p:cNvPicPr/>
          <p:nvPr/>
        </p:nvPicPr>
        <p:blipFill>
          <a:blip r:embed="rId3"/>
          <a:stretch/>
        </p:blipFill>
        <p:spPr>
          <a:xfrm>
            <a:off x="380880" y="380880"/>
            <a:ext cx="2743200" cy="601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059360" y="549360"/>
            <a:ext cx="4341600" cy="11397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bacharachblog.com/wp-content/uploads/2009/11/classroom-management.jpg"/>
          <p:cNvPicPr/>
          <p:nvPr/>
        </p:nvPicPr>
        <p:blipFill>
          <a:blip r:embed="rId3"/>
          <a:stretch/>
        </p:blipFill>
        <p:spPr>
          <a:xfrm>
            <a:off x="380880" y="380880"/>
            <a:ext cx="281952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886200" y="1287360"/>
            <a:ext cx="4191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achers should be able to make easy transitions from one activity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mentum must be at a consisten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must be prepared and know the activity well because the teacher must be prepared for any changes that may occur that effect the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2736720" y="285840"/>
            <a:ext cx="6132600" cy="2597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3886200" y="1779480"/>
            <a:ext cx="4800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lets the students know what is going on throughout the day and they stick with that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is able to maintain group focus through engaging their students through interesting, interactive and mentally challeng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0.gstatic.com/images?q=tbn:ANd9GcS0AwEEL-mnC-ezS--8BfLV66PzaFktRVb3x0nsKsAmcuD6qDA0"/>
          <p:cNvPicPr/>
          <p:nvPr/>
        </p:nvPicPr>
        <p:blipFill>
          <a:blip r:embed="rId3"/>
          <a:stretch/>
        </p:blipFill>
        <p:spPr>
          <a:xfrm>
            <a:off x="304920" y="304920"/>
            <a:ext cx="3276360" cy="619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2541600" y="401760"/>
            <a:ext cx="3798720" cy="1135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438280" y="1752480"/>
            <a:ext cx="579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tudents have had enough information and begin to drift. The students are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avoid satiation, the teacher is enthusiastic, offers challenges to the students and provides the students with a variety of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t0.gstatic.com/images?q=tbn:ANd9GcQWSrV71lYenHk7lhtYP0G0eNyosGTxtnxgTe-olGpiIGvDmeKQ"/>
          <p:cNvPicPr/>
          <p:nvPr/>
        </p:nvPicPr>
        <p:blipFill>
          <a:blip r:embed="rId2"/>
          <a:stretch/>
        </p:blipFill>
        <p:spPr>
          <a:xfrm>
            <a:off x="380880" y="380880"/>
            <a:ext cx="2743200" cy="609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352680" y="304920"/>
            <a:ext cx="52578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eaknes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lose track of time when performing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get distracted by students or other outside variables (the phone rings, someone walks into the classroom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s’ eyes cannot be on every student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point out a student’s strength/weak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get every student involved in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 lose control over a disruptive stu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4501080" y="533520"/>
            <a:ext cx="1761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2895480" y="937800"/>
            <a:ext cx="6248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presents methods of withitness and organization that teachers can use in their class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roup alerting gains the attention of students. Group alerting also allows teachers to present to students expectations that they have for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verlapping provides teachers with control over several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that make lessons more interesting avoid sat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develop a pace with their class to achieve a precise momentum to teach a lesson appropriat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helps extinguish misbehavi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t0.gstatic.com/images?q=tbn:ANd9GcQp7GMwABfuTmVFVgnSQyv_Ipyd3xmN_wajyqBFyaB3gu7WakFl"/>
          <p:cNvPicPr/>
          <p:nvPr/>
        </p:nvPicPr>
        <p:blipFill>
          <a:blip r:embed="rId2"/>
          <a:stretch/>
        </p:blipFill>
        <p:spPr>
          <a:xfrm>
            <a:off x="380880" y="380880"/>
            <a:ext cx="2667240" cy="60865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3" descr=""/>
          <p:cNvPicPr/>
          <p:nvPr/>
        </p:nvPicPr>
        <p:blipFill>
          <a:blip r:embed="rId3"/>
          <a:stretch/>
        </p:blipFill>
        <p:spPr>
          <a:xfrm>
            <a:off x="3786120" y="268200"/>
            <a:ext cx="415152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276720" y="1287360"/>
            <a:ext cx="53337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unin’s model is relevant in today’s classroo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model is demonstrated by teachers each day to minimize inappropriate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Kounin’s ideas will be demonstrated and used by teachers for many years to come because his practices are effective in many classrooms. I saw many of his methods used by my Practicum teacher back in the spring. Also, I feel Kounin’s methods are relevant because I have used his methods to minimize behaviors, while I was teaching my Practicum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603360" y="433440"/>
            <a:ext cx="8089920" cy="1187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2590920" y="190512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unin’s model of behavior has it’s strengths and weaknesses. However, through my experiences of teaching and observing in classroom I have witnessed Kounin’s model being used by teachers and myself. At times Kounin’s model does not always work with every problematic student. However, the model has a tendency to work with most students and maintains a well organized classroom with minimal inappropriate behav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2030400" y="334800"/>
            <a:ext cx="5278320" cy="112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2666880" y="1600200"/>
            <a:ext cx="59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Jacob Kou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lassroom management theo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main focus is on the integration of a teacher’s organization and planning, along with steady movement of a lesson and how those concepts contribute to classroom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began his career  at Wayne University as an educational psychologist in 19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237960" y="360360"/>
            <a:ext cx="8509320" cy="1103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743200" y="152388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examples of how I used Kounin’s model of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Ripple Effect” – Once I called on one student for not paying attention the other students in the class lifted their heads and focused on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tness- At one point of the day, one student would always start to play with their pencils in their desk. I caught onto this misbehavior and as I was writing on the board I said “Eyes on me, no playing in your desk”. The one student I heard whisper “How does she know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apping – As I taught my lesson, I was able to point out ideas as I walked across the classroom to monitor my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1" descr=""/>
          <p:cNvPicPr/>
          <p:nvPr/>
        </p:nvPicPr>
        <p:blipFill>
          <a:blip r:embed="rId1"/>
          <a:stretch/>
        </p:blipFill>
        <p:spPr>
          <a:xfrm>
            <a:off x="1785960" y="208080"/>
            <a:ext cx="5572080" cy="1815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38080" y="18288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rius, J. (2012).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matter: The Kounin model of discipl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etrieved on June 9, 2012,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teachermatters.com/classroom-discipline/models-of-discipline/the-kounin-mod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unin, J. (197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cipline and group management in classroom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labar, FL: Krieger Publish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arpaci, R. T. (200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case study approach to classroom management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oston, MA: Pearson Education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9y3ULIgv4pn-8hqBJL8F1EB1gtcXQqpk2s8Ny05as9Ijtt5PJ"/>
          <p:cNvPicPr/>
          <p:nvPr/>
        </p:nvPicPr>
        <p:blipFill>
          <a:blip r:embed="rId3"/>
          <a:stretch/>
        </p:blipFill>
        <p:spPr>
          <a:xfrm>
            <a:off x="0" y="4962600"/>
            <a:ext cx="9144000" cy="189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938240" y="96840"/>
            <a:ext cx="5316480" cy="113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590920" y="1066680"/>
            <a:ext cx="510516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ounin’s 1970’s case studies on classroom management, took over five years to conduct. He experimented with college, high school and elementary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research was conducted through visual observations of video tapes of 80 elementary school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S26Cg4ZWraO1oLnHS1wENulI5bLN0sqFi1_vCAWQcYlnyoOAKsnA"/>
          <p:cNvPicPr/>
          <p:nvPr/>
        </p:nvPicPr>
        <p:blipFill>
          <a:blip r:embed="rId3"/>
          <a:stretch/>
        </p:blipFill>
        <p:spPr>
          <a:xfrm>
            <a:off x="3429000" y="472428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3200400" y="255600"/>
            <a:ext cx="267012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809880" y="16002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ounin presents his novel “Discipline and Group Management in Classrooms”(1977), which is based on the integration of instructional and disciplinary aspects of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ront Cover"/>
          <p:cNvPicPr/>
          <p:nvPr/>
        </p:nvPicPr>
        <p:blipFill>
          <a:blip r:embed="rId3"/>
          <a:stretch/>
        </p:blipFill>
        <p:spPr>
          <a:xfrm>
            <a:off x="1600200" y="1219320"/>
            <a:ext cx="1752480" cy="2614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1322280" y="433440"/>
            <a:ext cx="6437520" cy="112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099440" y="1523880"/>
            <a:ext cx="72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Kounin Model of Withitness &amp;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52480" y="21337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that provide their class with effective lesson management that provides smooth pacing, transitions, alerting and individual accountability will demonstrate effective classroom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2.gstatic.com/images?q=tbn:ANd9GcSQieKo1MmAjGZ20Djsk8FHz7XUpwojE5s6Mf_YDHm_eMsZ6kD3"/>
          <p:cNvPicPr/>
          <p:nvPr/>
        </p:nvPicPr>
        <p:blipFill>
          <a:blip r:embed="rId3"/>
          <a:stretch/>
        </p:blipFill>
        <p:spPr>
          <a:xfrm>
            <a:off x="312408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2266920" y="208080"/>
            <a:ext cx="4346640" cy="1773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514600" y="838080"/>
            <a:ext cx="58672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be atten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keep students attentive and active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be able to multitask and monitor their students at all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plan lesson activities that students not only enjoy, but are also challenging to stimulate their m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835200" y="585720"/>
            <a:ext cx="7808760" cy="1938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906280" y="2438280"/>
            <a:ext cx="523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ipple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ith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verl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a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2236680" y="281160"/>
            <a:ext cx="4492800" cy="1126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143000" y="152388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“Ripple Effect” occurs when teachers correct the misbehavior of one student and as a result the correction of the misbehavior influences the behavior of a nearby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st: Comments made to stop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Q8UgRg8M7V5R8EF6PyR7NDBHIW4FljgnB8mTeavM_apoEmxvJI"/>
          <p:cNvPicPr/>
          <p:nvPr/>
        </p:nvPicPr>
        <p:blipFill>
          <a:blip r:embed="rId3"/>
          <a:stretch/>
        </p:blipFill>
        <p:spPr>
          <a:xfrm>
            <a:off x="6324480" y="4038480"/>
            <a:ext cx="2494080" cy="243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" descr=""/>
          <p:cNvPicPr/>
          <p:nvPr/>
        </p:nvPicPr>
        <p:blipFill>
          <a:blip r:embed="rId2"/>
          <a:stretch/>
        </p:blipFill>
        <p:spPr>
          <a:xfrm>
            <a:off x="2724120" y="237960"/>
            <a:ext cx="4073400" cy="1200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886200" y="137160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acher should have the skills to be able to know what is going on in the classroo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a sense the teacher should have eyes in the back of their 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3.gstatic.com/images?q=tbn:ANd9GcQHSHq8z7w_5V4Yq-iCZrW-J_0W_l5aIkqXaAlqoeHXoX_Angjl"/>
          <p:cNvPicPr/>
          <p:nvPr/>
        </p:nvPicPr>
        <p:blipFill>
          <a:blip r:embed="rId3"/>
          <a:stretch/>
        </p:blipFill>
        <p:spPr>
          <a:xfrm>
            <a:off x="457200" y="3048120"/>
            <a:ext cx="301932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8:02:31Z</dcterms:created>
  <dc:creator>Brandon Luroe</dc:creator>
  <dc:description/>
  <dc:language>en-US</dc:language>
  <cp:lastModifiedBy>Brandon Luroe</cp:lastModifiedBy>
  <dcterms:modified xsi:type="dcterms:W3CDTF">2012-06-13T01:43:20Z</dcterms:modified>
  <cp:revision>55</cp:revision>
  <dc:subject/>
  <dc:title>Slide 1</dc:title>
</cp:coreProperties>
</file>